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1117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A364-6FD0-44C5-947D-488E2956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2320"/>
            <a:ext cx="82296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54520"/>
            <a:ext cx="82296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C32-8FCD-4B04-9425-1D44584A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23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23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545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545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38E-69E2-45C0-A02C-36CBCA5B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2320"/>
            <a:ext cx="26496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2320"/>
            <a:ext cx="26496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2320"/>
            <a:ext cx="26496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54520"/>
            <a:ext cx="26496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54520"/>
            <a:ext cx="26496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54520"/>
            <a:ext cx="26496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91D-8B80-4297-A15F-51533ED9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2320"/>
            <a:ext cx="8229600" cy="33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296-2FF3-465E-A834-3CC58BFD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2320"/>
            <a:ext cx="8229600" cy="33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66B-CA71-4B93-AD1E-FC46A4BE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2320"/>
            <a:ext cx="4015800" cy="33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2320"/>
            <a:ext cx="4015800" cy="33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6976-BD17-4647-A6CE-151D8CDE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6D90-7A0B-4F9A-B6B2-CEC08592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4840"/>
            <a:ext cx="822960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BAD7-ED25-42D7-8913-EA205105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23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2320"/>
            <a:ext cx="4015800" cy="33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545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DC4B-E7E9-4E9E-B24B-D0531667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2320"/>
            <a:ext cx="4015800" cy="33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23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545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E82-97E8-4A06-A973-5ECD7505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23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23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54520"/>
            <a:ext cx="82296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1D6-391A-49BB-88EE-56A11545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2320"/>
            <a:ext cx="8229600" cy="33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5444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5444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5444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D2FA-960A-45D2-9356-099FEEF7F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9746" r="0" b="0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O</cp:lastModifiedBy>
  <dcterms:modified xsi:type="dcterms:W3CDTF">2006-09-30T01:53:1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